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B0A-B9FB-49BC-9B67-19A17C90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D7A-7ED7-4624-824E-7CC31EE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515-6073-417D-9A84-C11B2248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5B7-4252-4011-90E9-8FBD884E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483-C3A8-4A52-A46D-97A5EA42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854-91F0-47ED-8505-A490BD27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C8D-C331-408D-A241-72E82886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C4B-700A-4928-A6AD-110A850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FB7-6FF2-4D8B-927B-1AFB56D8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63A-A789-42FE-88B7-AC1C720C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32B-783A-4644-AC3A-621334C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D8C-8775-4147-8025-E7C7532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1FB0-2423-4B44-8B57-24602F7FC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Titl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is definitely slide 1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Titl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is definitely slide 1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looks like slide 2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ut it’s really slide 3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8:03:59Z</dcterms:created>
  <dc:creator>John Wilson</dc:creator>
  <dc:description/>
  <dc:language>en-US</dc:language>
  <cp:lastModifiedBy>John Wilson</cp:lastModifiedBy>
  <dcterms:modified xsi:type="dcterms:W3CDTF">2007-03-23T08:11:44Z</dcterms:modified>
  <cp:revision>4</cp:revision>
  <dc:subject/>
  <dc:title>The Title</dc:title>
</cp:coreProperties>
</file>